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5956CF-0EDF-42A0-9AC7-C185B9E5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C7E103-8459-4CE0-A7BF-22F6997AB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4475CE-4E33-4746-8A17-80C66A659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322A64-0063-49CA-9E2F-F68713F84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n use Similar to IS-A within ontology, but do not inherit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823BF0-7E3A-4799-89EE-130717D6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7B0D00-8D3B-43F2-981E-A821CCE3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20B46C-771B-4C29-B72E-B75645EF5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3522F9-4520-4A77-82C9-7F9BF113F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A5E481-81D6-4BFF-9E18-543C7B1CA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50A393-2136-4B5F-A758-FB349FA76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9D70DA-7125-4AA3-BA7D-1FC3FC2D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ustomers can assimilate at most one “big thing”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 oriented architectures have been anointed, and suck the oxygen from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room for Sem-Web in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2FF7DB-0CB9-41C5-8ECB-3A9AD3DFC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810ECB-40E0-4E99-9F74-31A686CE1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are mapped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bject correspondences,(Match, Derive attrib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 instance-set mapping  (M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C66A30-0DB0-4754-96F3-DAAFE5966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F43F60-057C-4CB7-A657-514B7B625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27345B-B959-4E39-966D-0EC7E7E17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hunks are easier to reuse: (e.g. Castano et. al., TO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and display convenience mean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mewhe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ystem, you’ll have something record-oriented. So you need to sell that a second formalism is worth introduc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ither approach, as you refine definitions, you subtype.  That’s easier with ontology, somewhat clumsier in relational and XML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92584E-9534-4491-BB8F-A7CEEA1E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hunks are easier to reuse:  Castano et. al., T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ither approach, as you refine definitions, you subtype.  That’s easier with ontology, somewhat clumsier in relational and XM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C6DE-80F5-4705-BFCD-CE162D7CFA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3334-2494-49B3-BE36-63763258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1EFD-4039-43FB-8BB2-35D27FF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94B0-1A20-42DA-8626-1E35499F1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254D7-892C-4A04-A931-1CDE907F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17F3B-F7DC-4B67-A9D2-004E9FF7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C4906-0018-4683-BCE4-FF33F940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A6F90-A77A-41BD-9A45-64479571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356A2-A779-4FFA-A74B-DBC15C64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DD07-B6DF-4062-BB81-DEC6A25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60AFA-A3D7-401E-B897-CCE8D6F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9E19-5759-48CB-BBD6-7E228D78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414F5-1E10-489D-AA43-6C4E2C9B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C65D1-6969-493C-87C3-18032AF3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ED785-5BAF-4C7C-BD07-AB009FF9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BEC8A-66DD-4F5D-8D85-2AB1A158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5A8C5-9E24-45B2-8CFA-C28A920D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9FD2-AD7C-4AC1-9165-C8ED63A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B0AD-9418-4575-9174-9C34049C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9F27-B314-4C2C-B395-61CEC724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206D-5166-4579-9120-8E3BEE9D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A147-758E-4B0C-9707-E1F204FC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2F97-18FB-4A4B-94A4-6E45DBBD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89D7-1C02-4299-A3F8-26B32674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B488-D859-45C5-93DB-25D840FB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533520" y="1600200"/>
            <a:ext cx="81928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" descr=""/>
          <p:cNvPicPr/>
          <p:nvPr/>
        </p:nvPicPr>
        <p:blipFill>
          <a:blip r:embed="rId2"/>
          <a:stretch/>
        </p:blipFill>
        <p:spPr>
          <a:xfrm>
            <a:off x="8043840" y="631836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6" name="Text Box 17"/>
          <p:cNvSpPr/>
          <p:nvPr/>
        </p:nvSpPr>
        <p:spPr>
          <a:xfrm>
            <a:off x="6493680" y="6513480"/>
            <a:ext cx="25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 The MITRE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D67B-748F-47B0-83CE-783599384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9399-2FD5-4AFF-AE7B-29AD6ACCD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asting typical SW and DB approaches to semantic 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n Rosen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98D0-0D80-4871-BBE6-24720E171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0024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OWL has both theory and tool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xtensible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xecute by inference eng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t tuned to query processor str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22093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Homegrown log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</a:rPr>
              <a:t>Even simple Datalogs won’t inter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xtensible</a:t>
            </a:r>
            <a:br>
              <a:rPr sz="2200"/>
            </a:b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Mappings are in popular query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Efficient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: parallel, query optimiz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Deployable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e.g., change manag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00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                              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B73-51C0-430D-BAC6-E45B873C5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amo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Usable_f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l’ships use formalism very similar to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IS-A is “native”, i.e., part of the regula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-A logically merges the 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WL is insufficient, 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ule languages over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61760" y="22856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am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a {informal or formal logic assrtns.} or quer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ore powerful (data exchange logici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erminology: 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 TGD = 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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</a:t>
            </a:r>
            <a:r>
              <a:rPr b="0" lang="he-IL" sz="2000" spc="-1" strike="noStrike">
                <a:solidFill>
                  <a:srgbClr val="ff0066"/>
                </a:solidFill>
                <a:latin typeface="Arial"/>
                <a:cs typeface="Arial"/>
              </a:rPr>
              <a:t>ש</a:t>
            </a:r>
            <a:r>
              <a:rPr b="0" lang="ar-SA" sz="2000" spc="-1" strike="noStrike">
                <a:solidFill>
                  <a:srgbClr val="ff0066"/>
                </a:solidFill>
                <a:latin typeface="Arial"/>
                <a:cs typeface="Arial"/>
              </a:rPr>
              <a:t>څ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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View defns are big: hard to edit (and to re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33520" y="1600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                            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8346-B326-419A-A8F0-AC64539A0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ypical AI vs. DB approaches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semantics: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ever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engine infers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s this tolerable? Why (no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2285640"/>
            <a:ext cx="3962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xamined from user viewpoint,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ard to learn or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iscards tuples unnecessar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3520" y="1600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                            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5E2C-933C-4925-B164-B304CBA8D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le for”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formalism can be used to describe either systems or domai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able_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irectional, to relate concepts that are not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le_for does not force inheritance – one system may have fewer attribu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they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Formalis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standard construct for “can be used for” super-property ≈ tuple-generating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Direct or via neutral model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and match, share info and infer over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Execution environment: DBM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, query optimization,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bilingual (SQL, XML), add RDF when it reaches critical mass ($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267-1DE8-4C83-AFBD-BBA73E206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Alignment” research is hard to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picuous lack of widely-used products, from eith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ers/matchers automat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ork of an integration engineer, but can’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+%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lve a major “customer” probl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a robust mediator, there aint no customer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A485-6BE4-4686-917A-E5FA80FB4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685800" y="5029200"/>
            <a:ext cx="80773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:  Touch the end users, down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one outside the IT de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reduction in their work as schemas ev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code for end users 80%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munities addressing simila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tandards, cleaner formalisms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Web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gmatics and richer suites on the db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rgely formalism independent, could be imported, esp. “Instant gratific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0408-6341-4F21-A04D-512D8F41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versions of a comm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ma matching ≈ Align classes/properties in ont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ta-models, similar core proble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eith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omai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chemas (for sys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omain model and one sche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 Identify the relationships betw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ir instance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, IS-A, “usable for” seem the main ones helpful to a “custom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y need to transform to make things mat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AA0F-3092-430D-9125-33174B06E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ades have elaps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base side:  Survey of schema matching research (Batini et. al., 1986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schema may be constructed from in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sioned end product is a SQL 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is on “where can we find clues”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m-Web precursors:  ISI, MCC – domain model (in logic) plus articulation axio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aints are within the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ing-based. Each project had its own formal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Arial"/>
              </a:rPr>
              <a:t>Obvious question: Why no robust products ye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6EA-C26D-4A0C-AB9F-0D3CDBC49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ping ahead to my conclusions (SW competit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nterprise systems today, lean toward DB and XML tools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9900"/>
                </a:solidFill>
                <a:latin typeface="Arial"/>
              </a:rPr>
              <a:t>unless</a:t>
            </a: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 you really exploit ontologies’ greater expressive power (value taxonomies, IS-A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uring sem-web environments will (by definition) import knowledge from big data integration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570A-B4EE-4A5D-AC37-0F5EAA63B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A301-8671-4133-8710-4B5F9FA87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spondence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form approaches (can be multi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219320" y="27432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467480" y="266688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1905120" y="32004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295280" y="50292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7543800" y="495288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loud"/>
          <p:cNvSpPr/>
          <p:nvPr/>
        </p:nvSpPr>
        <p:spPr>
          <a:xfrm>
            <a:off x="3962520" y="510552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98108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556272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919-161F-425B-BC92-B73D43CD5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erging work – not associated with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ter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o use when creating? describ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295280" y="4191120"/>
            <a:ext cx="685800" cy="990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162920" y="41148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loud"/>
          <p:cNvSpPr/>
          <p:nvPr/>
        </p:nvSpPr>
        <p:spPr>
          <a:xfrm>
            <a:off x="3276720" y="320040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800600" y="464832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loud"/>
          <p:cNvSpPr/>
          <p:nvPr/>
        </p:nvSpPr>
        <p:spPr>
          <a:xfrm>
            <a:off x="4114800" y="388620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loud"/>
          <p:cNvSpPr/>
          <p:nvPr/>
        </p:nvSpPr>
        <p:spPr>
          <a:xfrm>
            <a:off x="3276720" y="4952880"/>
            <a:ext cx="1600200" cy="1073160"/>
          </a:xfrm>
          <a:prstGeom prst="pie">
            <a:avLst/>
          </a:prstGeom>
          <a:solidFill>
            <a:srgbClr val="ffbe7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1981080" y="373356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981080" y="4495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981080" y="47242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4800600" y="34290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3429000" y="457164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5715000" y="43434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3505320" y="411480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62A6-1835-4FE1-956D-385D7B27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termed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termediaries (e.g.., P2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neutral intermediary to connect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295280" y="4191120"/>
            <a:ext cx="685800" cy="990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162920" y="4114800"/>
            <a:ext cx="6858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4191120" y="4648320"/>
            <a:ext cx="2819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 flipV="1">
            <a:off x="1981080" y="373356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1981080" y="44956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981080" y="47242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191120" y="3505320"/>
            <a:ext cx="609480" cy="45720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 flipV="1">
            <a:off x="3429000" y="4571640"/>
            <a:ext cx="762120" cy="609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5105520" y="44197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3"/>
          <p:cNvSpPr/>
          <p:nvPr/>
        </p:nvSpPr>
        <p:spPr>
          <a:xfrm flipH="1">
            <a:off x="3429000" y="4114800"/>
            <a:ext cx="76320" cy="99072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276720" y="32767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4191120" y="39625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276720" y="5105520"/>
            <a:ext cx="914400" cy="838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47DD-1717-4F34-B401-D6A8154C1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ypical DB vs.  AI approache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5680" y="25905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: atomic concept (object or 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mall chunks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easy to relate &amp;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obust for multiple 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16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: relation or tree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cord is a good chunk for storage or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ets are present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l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system or a physical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malisms to describe concepts &amp; relationship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B (Schema)                      AI (Ontolog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-106668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757D-CD62-46C5-B212-4C60ABE93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ypical DB vs.  AI approach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5680" y="25905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via neutral def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use is easier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ll administrators  understand “foreign” or abstract concept def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relationships and flows betwee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stant gratification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funding is usually for an applic’n, not for integrat’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Differences i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real data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lead to improve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Tools examine th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billion indust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eature-rich, scalable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malisms to describe concepts &amp; relationship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B (Schema)                      AI (Ontolog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8:24:07Z</dcterms:created>
  <dc:creator>Arnon Rosenthal, Len Seligman</dc:creator>
  <dc:description/>
  <dc:language>en-US</dc:language>
  <cp:lastModifiedBy>Arnon Rosenthal</cp:lastModifiedBy>
  <cp:lastPrinted>2003-02-26T12:46:23Z</cp:lastPrinted>
  <dcterms:modified xsi:type="dcterms:W3CDTF">2008-06-10T22:42:16Z</dcterms:modified>
  <cp:revision>146</cp:revision>
  <dc:subject/>
  <dc:title>Pragmatics of Applying (Data Exchange)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5303894</vt:r8>
  </property>
  <property fmtid="{D5CDD505-2E9C-101B-9397-08002B2CF9AE}" pid="3" name="_AuthorEmail">
    <vt:lpwstr>arnie@mitre.org</vt:lpwstr>
  </property>
  <property fmtid="{D5CDD505-2E9C-101B-9397-08002B2CF9AE}" pid="4" name="_AuthorEmailDisplayName">
    <vt:lpwstr>Rosenthal, Arnon S.</vt:lpwstr>
  </property>
  <property fmtid="{D5CDD505-2E9C-101B-9397-08002B2CF9AE}" pid="5" name="_EmailSubject">
    <vt:lpwstr>presentations from Cambridge SW meeting?</vt:lpwstr>
  </property>
  <property fmtid="{D5CDD505-2E9C-101B-9397-08002B2CF9AE}" pid="6" name="_NewReviewCycle">
    <vt:lpwstr/>
  </property>
</Properties>
</file>